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06C-03F1-457E-B15F-EF8B34FC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A1D-340F-4226-BC46-6C500E2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E8F-3914-414C-92BB-8DBB444C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9B0-13A6-4B33-9EE8-3EC83C0D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CC46-79E8-42CA-89C2-06DCAF67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8B55-E35E-4DCA-BAE5-1A96AAF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F50B-E820-4EEA-8DBF-1E27B78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6A14-0927-4DA5-B2D9-0AB85B9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66E7-3DF9-4288-AB92-DC0D6FF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FFCC-759A-481F-A91D-E4482E51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AEA4-FD08-4C85-8FFA-F1963159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2BB-7577-4927-A751-CD2E9713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7B3-E20B-4B98-ABDF-FA8ADE5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7D2B-F2F9-4B7E-B3C6-2FC4D9A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73C-35DD-4C36-B1FA-15E624D0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7817-AA8D-4096-801F-6AA0E97E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9F0E-D060-4691-986A-73A30451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15A1-371F-4448-8B64-35EE0E82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FD2C-42EF-4372-B42D-EFAAF9D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C138-A5C4-4619-B605-D97B65E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9649-830F-4F01-8144-DBD057A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2861-991F-4AB1-A9D6-74B0B7A4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F72-71E0-44A7-B86D-EAC2EA83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7F86-89FF-4893-BB3B-8F9A502B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3767-0562-4D05-98E6-C82AE62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0982-0C0B-4AC3-B99E-BF6A718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DCF7-1577-4E15-98D0-216DDE5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662E-9B38-4D33-8AA6-F7E5AC6B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29ED-1148-44D2-84FF-5B34AD09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700C-4EB4-46F2-921D-6BF677C2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D34A-9A1A-4989-A73C-DC954F32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7B8C-C523-4D62-A8CB-DD5D67B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8CAA-0018-4EB5-AD39-58B1C79F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452-0594-4528-BD91-AD66821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5A71-C79A-4B76-81B9-B369131A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646E-C3D4-4139-B392-5FDCC74B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E769-1A0D-4E26-971D-339A334A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6B9D-E03A-46E9-99BB-705E456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A3E3-E10B-48DA-8D6D-89E6BC5B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EE2D-88F3-45BF-9A0F-B3B1452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47E7-D2C3-402B-8331-BF5C313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AC1A-AB42-42EC-BAC6-055F4FAE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1F21-64D2-4187-89CD-AA0FEC63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0EA-2B73-483F-947A-4C23E311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252-BDC7-43B3-9C60-C8D41CCC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0F4-972B-4DB6-8E85-F4017BE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98A-CC8C-4FF6-AFB0-0275FA08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6FE-89A1-4A67-9594-7B31B24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5F8-16BE-4EC0-A5BD-285CBB9B4DA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3F87-F1C5-45C2-AA25-65D6EEB15F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54C6-DBDA-4EAC-A713-E318DFB14B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E0E-50CA-43BB-AF38-2AB480567B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14200" y="4429080"/>
            <a:ext cx="6357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ект по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ля учащихся 9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428760" y="14288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b5edfd"/>
                </a:solidFill>
                <a:uFillTx/>
                <a:latin typeface="Constantia"/>
              </a:rPr>
              <a:t>Есенин</a:t>
            </a:r>
            <a:r>
              <a:rPr b="1" lang="ru-RU" sz="6600" spc="-1" strike="noStrike" u="sng">
                <a:solidFill>
                  <a:srgbClr val="8adfff"/>
                </a:solidFill>
                <a:uFillTx/>
                <a:latin typeface="Constantia"/>
              </a:rPr>
              <a:t> - лель русской поэз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5"/>
          <p:cNvSpPr/>
          <p:nvPr/>
        </p:nvSpPr>
        <p:spPr>
          <a:xfrm>
            <a:off x="500040" y="15001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5edfd"/>
                </a:solidFill>
                <a:uFillTx/>
                <a:latin typeface="Constantia"/>
              </a:rPr>
              <a:t>Автор проект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оронова Полина Константиновна, 341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000240" y="285840"/>
            <a:ext cx="3786480" cy="57164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2428920" y="6000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Александрович Есен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95-19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357120" y="242892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Является ли творчество русских поэтов на самом деле актуальным и притягательны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-61200" y="785880"/>
            <a:ext cx="9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Основной вопрос нашего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"/>
          <p:cNvSpPr/>
          <p:nvPr/>
        </p:nvSpPr>
        <p:spPr>
          <a:xfrm>
            <a:off x="214200" y="100008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Вопросы, ответы на которые мы будем иск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214200" y="278604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факторы оказали влияние на формирование русского характера поэта С.Есен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овы черты в характере лирического героя С.Есен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ово отношение поэта к Росс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142920" y="928800"/>
            <a:ext cx="90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Вопросы учебной темы (частные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темы чаше всего звучат в стихотворениях поэ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ая тема является основной для поэ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157176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Система ур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500040" y="150012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ур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Знакомство с творчеством пис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 ур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Основные темы лирики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 ур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Творческий подход к изучаемой теме (исследовательские работы учащихс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157176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Темы проектов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500040" y="150012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любви в стихах С.А.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Родины в стихах С.А.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природы в стихах С.А.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ожно выбрать свои темы, касающиеся творчества или биографии поэ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1571760" y="64296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Представление своего проект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285840" y="2286000"/>
            <a:ext cx="86439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презентации, по выбранной учеником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бота с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щита своего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роки создания своего проекта 10 – 12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3"/>
          <p:cNvSpPr/>
          <p:nvPr/>
        </p:nvSpPr>
        <p:spPr>
          <a:xfrm>
            <a:off x="78588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0" y="13572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тература: 9 кл.: Учеб.хрестоматия для общеобразоват. учреждений/Авт.-сост. Т.Ф.Курдюмова и др. – 4-е изд. – М.: Просвещение, 1999. – 447 с.: 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олотарева И.В., Беломестных О.Б., Корнеева М.С. Поурочные разработки по литературе. 9 кла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-е издание исправленное и дополнен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.: «ВАКО», 2004, 400 с. – (В помощь школьному учител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итаем.Думаем.Спорим: Кн. для самостоят. работы учащихся по лит.: 9 кл./ Авт.-сост. Г.И.Беленький и др.; Под ред. Г.И.Беленького. – М.: Просвещение; Учебная литература, 1996. – 336 с.// С.А. Есен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0:17:05Z</dcterms:created>
  <dc:creator>Admin</dc:creator>
  <dc:description/>
  <dc:language>en-US</dc:language>
  <cp:lastModifiedBy>студент</cp:lastModifiedBy>
  <dcterms:modified xsi:type="dcterms:W3CDTF">2001-12-31T22:26:47Z</dcterms:modified>
  <cp:revision>15</cp:revision>
  <dc:subject/>
  <dc:title>Слайд 1</dc:title>
</cp:coreProperties>
</file>